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9AE6-29F5-45E0-A98B-E696E019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A719-61E3-46E8-81C2-FD8879A2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DCBF-30DA-4924-9909-95A1AE95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349-0B85-4288-BC0E-4CB9D2E3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8724-1143-47DE-81A5-12EC455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6B9-0DBE-4769-933F-39CE45C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BF64-637C-4BD6-9D19-D4593377F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B6A0-9381-43CB-B10E-E379FDA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5577-0CE2-42C9-8353-FE6A8C250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35AE-D640-4DE3-97C1-4FDFA3A5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34AB-19C9-4936-A13B-3E14DDFF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43A8-39F8-4F7B-889B-3EF2A750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9833E-B439-4AAA-8AD8-6F39BF5C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0DB2-9C50-4351-A363-94BB80F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4EDF-4CC9-4D59-8431-11AA71C4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9049-A1C7-4AB0-87C7-13457E5E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E0A21-0FCE-4444-8E7E-33BBD5BD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7E72BC-0707-47F5-8EA1-0EEFC40C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DBCC95-5578-4F75-AA92-9FC74E6C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BDB45-58A0-4AA6-8A91-DEE21316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372D29-4A74-44D2-AA87-B311BD31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A1ECF5-4D50-48EB-9CD9-9A78CD8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41B4-9431-45B4-A899-F82574CA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CBF01C-FEC7-421F-8994-9D6B20AB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9CA67-6D33-4CC5-8F8D-77BAE9FA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15289-35D9-410E-A3AF-0296FCD3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8AB00-980E-4CF8-9CAC-3B2E61F7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66F5CC-1849-402A-93F5-C966DF5E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A47663-9028-49FC-8EAB-2459F9C6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8983C-AD72-4F9E-929D-255211B0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4CB72-13A3-4442-932A-92CD46A6C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9DDC5-04BA-4491-8635-7B94DCA1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4D08-E350-40EB-BA22-52A8769D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C503-79CB-4468-9F62-744882BD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7910C-9FFF-4F84-9D4C-E284EB3D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7E1DB-933C-43D2-81D9-91750DD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9A8A-679D-481E-AE58-939613844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9AAE4-6E39-4D05-93E4-D0BB314F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28F4E-3D08-4014-8948-0E0FE566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840A2-57FE-4C47-B5ED-BCE87F23E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78B2-F6C9-4392-BDBA-4EEBD6C4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90C28-1FA9-4970-867F-BC2846FED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A8FD5-E6C2-4278-B378-CFA16BCE0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C28197-F2E4-454D-BE09-289B44CAC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F99-D8CF-4EBF-B021-DCEAC09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2B4343-7F1E-4B55-8B94-7CAD3F00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916DD7-BA26-44E2-BDDB-D10955DC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E960C-177C-4286-8E4E-6C65AD96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19EC9-C382-4F53-99B5-F34215A2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AC6A1-FEC7-4391-A6D1-09FD36BB4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5DBAA-106B-48DC-BA9F-1CAEDC15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CD3F29-AD05-4C37-9D1D-D7F6D0D5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D6BB4-5C2E-4803-8C40-067FDC9B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C6D9E-6ED6-4C74-AF79-9E7725BC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575020-EA79-439B-8BFD-3F7F3C881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5987-31DD-4E2C-9AA4-AB469ECC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62F91B-E3A0-4ACA-AE3B-91272B8B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C32B3E-8141-4242-90C7-361019FB3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90677B-1E81-4F1B-B355-3FAE99D0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459B3B-17E4-48A7-A280-A2DFCE0A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BB3547-72CC-4175-B907-8DDAB612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CE641-B594-490E-B177-30D332A4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F362B8-BD05-4AF6-9B77-AE213E8F9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78D654-FE09-4FCD-9661-2C680C6F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BB6BA-3B75-4F29-8F81-AE9F3460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CB4CAA-B056-4FC7-9F76-58D25E6C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AE51-BD00-489E-9045-8C9A17E2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9EF833-25A2-45FE-86B4-966D41BE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EE59A-C6A8-4E53-87A8-B37FCEE41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65888C-8247-4F5F-B051-5FC1F28F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0C467-4FC8-4FB5-B48B-DC2F9B95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6C7A6D-2F6E-42E9-B266-3CAE25DD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DDD95-B732-42D8-92E6-67155C60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303095-C3A7-437E-9ED6-D9C08958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AA3FD7-902C-4F03-A17D-09FE990C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26AA9-6513-4566-A9C3-BAD910B2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54853-5E07-4C14-A042-10F2CF01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D9A-22F8-4221-B5F6-596E81B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F93E02-416E-4822-88BB-6375BB9B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D574AF-AF3D-4EDE-AAEA-478318C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BAC0D-C013-4D9E-9598-752EC946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AB1325-4F6D-4C77-9F1F-A60032FB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766F9A-3571-4DC3-BA0E-1B43D59C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72AA-C65B-4521-BB9F-D7C964B0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41F6-054A-4D2F-A412-18E588014A6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F555-37D4-4F55-A9A9-DD9EE8397B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55323-411D-4E0C-92E5-CC539D5A132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C32-29BB-45DA-87DD-76B6FA33DCF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F392-4CB7-4218-B565-63CEC7E17AF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6F3-5E61-41D6-8D80-68A436FADDD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F6FE-9D55-4E8A-845D-3A2B0F1117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ДНОКРИСТАЛЬНЫЕ МИКРОЭВМ ТИП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23640" y="1989000"/>
            <a:ext cx="746748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это серия с ядром 80С51В. В странах СНГ МК51 выпускаются на базе  n-МОП технологии (серия 1816) и КМОП технологии (серия 183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9"/>
          <p:cNvPicPr/>
          <p:nvPr/>
        </p:nvPicPr>
        <p:blipFill>
          <a:blip r:embed="rId1"/>
          <a:stretch/>
        </p:blipFill>
        <p:spPr>
          <a:xfrm>
            <a:off x="1571760" y="2786040"/>
            <a:ext cx="5549760" cy="3286080"/>
          </a:xfrm>
          <a:prstGeom prst="rect">
            <a:avLst/>
          </a:prstGeom>
          <a:ln w="0">
            <a:noFill/>
          </a:ln>
        </p:spPr>
      </p:pic>
      <p:sp>
        <p:nvSpPr>
          <p:cNvPr id="354" name="TextBox 4"/>
          <p:cNvSpPr/>
          <p:nvPr/>
        </p:nvSpPr>
        <p:spPr>
          <a:xfrm>
            <a:off x="3005640" y="614376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0. Структура МК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Заголовок 3"/>
          <p:cNvSpPr/>
          <p:nvPr/>
        </p:nvSpPr>
        <p:spPr>
          <a:xfrm>
            <a:off x="45720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3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D:\vvsu.gif"/>
          <p:cNvPicPr/>
          <p:nvPr/>
        </p:nvPicPr>
        <p:blipFill>
          <a:blip r:embed="rId2"/>
          <a:stretch/>
        </p:blipFill>
        <p:spPr>
          <a:xfrm>
            <a:off x="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ВНЕШНИЕ УСТРОЙСТВА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"внешним" устройствам МК51 отнесе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4 параллельных двунаправленных порта ввода/вывода P0..P3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фер SBUF и регистр управления SCON последовательного  канал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ы/счетчики T0,  T1,  их регистр управления TCON и регистр режимов TMOD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управления подсистемой прерываний: регистр приоритетов IP и регистр маски I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 управления машиной PCO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ит дуплексный последовательный канал связи с буферизацией,  который может быть запрограммирован для работы в одном из четырех режимо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0" - синхронный ввод/вывод с частотой OSC/1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1" - асинхронный с 8-бит. кадром, частота k*f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2" - асинхронный с 9-бит. кадром, частота k*OSC/32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жим "3" - асинхронный с 9-бит. кадром, частота k*f; где k {1, 1/2}, f - частота переполнения T1 (FOV), деленная на 1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ПОДСИСТЕМА ПРЕРЫВАНИЙ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рхитектура МК51 поддерживает двухуровневую радиальную приоритетную подсистему прерываний (ПП) с шестью  источниками  запросов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ема внешних прерываний служат входы INT0\,  INT1\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точниками внутренних запросов могут служить сигналы переполнения таймеров T0,  T1 и сигнал окончания работы последовательного ка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СИСТЕМА КОМАНД МК51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68000" y="134100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а команд включает 111 команд - однобайтовых (49), двухбайтовых  (45)  и трехбайтовых (17).  Все команды выполняются за 1 или 2 МЦ (16 тактов CLK в каждом), за исключением команд умножения и деления MUL и DIV,  для выполнения которых требуется 4 МЦ. Большинство двухбайтовых команд - одноцикловые,  а все трехбайтовые -двухцикловые. За  один  МЦ  в МК51 можно вводить до двух байтов программного к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 работает с данными четырех основных типов - битами,  полубайтами (4 бита),  байтами и адресами (16 бит).  Наиболее  часто используемой единицей данных является байт: внутренние магистрали данных имеют 8-битный размер.  Программная память, внутренняя память и внешняя память данных запоминают и возвращают данные в виде байтов. Кроме этого, имеется много команд, которые работают с одиночными битами.  Бит может быть установлен, очищен, проинвертирован,  логически скомбинирован с флагом переноса и проверен для выполнения последующих переходов.  Полубайт (двоично-десятичная упакованная цифра) обычно мало применяется в МК51,  но  двоично-десятичная арифметика может выполняться без преобразования операндов в двоичное представл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ы, которые  используют  16-битные адреса,  имеют дело с указателем данных (16-битный регистр DPTR ) и с программным  счетчиком (переходы и вызовы подпрограммы).  Использование команд сложения с битом переноса (ADDC) и вычитание с заемом  (SUBB)  делает программирование 16-битной арифметики относительно просты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граммно-доступными объектами в составе ОМЭВМ являются: аппаратные регистры, четыре банка по восемь регистров R0..R7,R0..R7 и 128 ячеек внутренней памяти данных - с адресами 00H..7FH.  Кроме того,  по  специальным  командам  MOVX  и MOVC может быть доступна внешняя память данных и программ. В МК51 возможна битовая адресация аппаратных регистров и части внутренней памят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программировании следует иметь в виду, что в качестве регистров R0..R7 банка 0 используются ячейки внутренней памяти  данных с адресами 00H..07H,  банка 1 - 08Н..0FН, банка 2 - 10Н..17Н, банка 3 - 18Н..1F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истеме команд МК51 используются  регистровая, прямая, косвенная и непосредственная адреса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гистровой  адресации  операнды  находятся  в регистрах, имена которых определяются кодом операции команды.  Эта  адресация используется  для  обращения  к регистрам выбранного банка рабочих регистров,  к регистрам А,  В,  DPTR и к флагу переноса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прямому  адресу  можно обращаться к аппаратным регистрам и внутренней памяти.  Используется также прямая  битовая  адресация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свенно можно  адресоваться  к  ячейкам внутренней и внешней памяти данных через регистры R0,R1 текущего ба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 любой ячейке внешней памяти (данных и программ) можно обратиться с использованием регистра DPT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типу операций можно выделить следующие классы команд:  пересылки;  арифметические и логические; передачи управления; специальные кома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4920" y="274320"/>
            <a:ext cx="75294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МИКРОКОНТРОЛЛЕР PIC ФИРМЫ PARALLA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39640" y="836280"/>
            <a:ext cx="74678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собо малый микроконтроллер. Простейший микроконтроллер имеет 8 выводов. Микроконтроллер 8-ми разрядный с Гарвардской архитектурой, что повышает производительность. Одновременно считывается команда и происходит обращение за данными. В некоторых микроконтроллерах есть операции умножения, деления, операции с плавающей точкой. Система команд компактная – не более 51 команды (LOW, LITLE и HIGH – 51 команда). Есть банки регистров как МК5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ть ПЗУ разных типов и перифирийные устройства (АЦП, ЦАП). В составе перифирийных устройств имеется несколько выводов последовательного интерфейса – обычный RS232, интерфейс I2C фирмы Philips, SPI.  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роллеры PIC могут быть использованы как ?умные? перифирийные устройства, т.е. SLAVE – контроллер может быть подсоединен к управляющему контроллеру PIC как обычное перифирийное устройство через порт (или линю данных). Очень развиты перифирийные средства коммуникации (I2C, SPI, RS232, порты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основе PIC может быть организованна сеть микроконтроллеров (через шину I2C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 SPI и I2C общая особенность: для передачи используется два пров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рфейс SPI работает со стробиованием по фронту сигнала (клока), т.е. по одной линии передаются данные, по другой – кл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I2C стробирование осуществляется по уровню. В обоих интерфейсах Master обеспечивает выдачу сигналов тактир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МК51 используются следующие сигнал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E  - строб адрес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EN\  - строб чтения внешней памяти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D\,WR\- стробы чтения и записи внешней памяти данных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A\  - разрешение обращения во внутреннюю память програм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0,T1 - входы счетчиков внешних событ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INT0,INT1- запросы внешних радиальны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xD - вход данных последовательного канал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xD - выход данных последовательного кана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состав МК51 входят параллельные 8-разрядные квазидвунаправленные порты P0..P3. Порт Р3 может быть использован для ввода и вывода управляющих сигн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  образом,  в циклах обращения к внешним ресурсам на линиях порта P3 работают управляющие сигналы, а при отсутствии необходимости  управления внешними  ресурсами эти же линии могут быть использованы как линии пор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АРХИТЕКТУРНЫЕ ОСОБЕННОСТИ МК51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8000" y="1413000"/>
            <a:ext cx="7467480" cy="49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К51  позволяет управлять пятью (частично пересекающимися) адресными пространствами памяти,  четыре из которых являются областями данных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SEG   - пространство регистров (4*8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SEG   - пространство внутренней памяти данных (256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BSEG   - битовое пространство данных (256 би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XSEG   - пространство внешней памяти данных (до 64К байт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SEG   - пространство программного кода (до 64К байт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а RSEG и BSEG частично пересекаются, физически совмещаются с DSEG и образуют единую внутреннюю среду для  хранения  данных.  Это позволяет одни и те же данные рассматривать с разных позиций (ячейка памяти,  регистр,  битовое поле, порт ввода/вывода и т.п.)  и организовывать наиболее удобный для данного случая доступ к н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Характерно, что  все порты ввода/вывода,  системные регистры, таймеры так же отображены на пространство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регистров  представлено четырьмя банками регистров по 8 в каждом,  а так же 16-разрядными программным счетчиком PC и регистром косвенного адреса DPTR,  8-разрядными аккумуляторами A и B, указателем стека SP и регистром PSW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регистры, кроме PC, отображаются на DS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7] - CY - перенос из старшего (7)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6] - AC - перенос из третьего разряда АЛБ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PSW[5] - F0 - флаг пользовате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оме того, формат PSW включает двухбитовое поле PSW[4:3] - RS номера  банка  регистров  и  флаги  арифметического  переполнения OV (PSW[2]) и четности P (PSW[0]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лаги CY,  AC  и  OV  отражают  признаки результата последней арифметической операции,  а P - четность содержимого  аккумулятора A. Расширение  аккумулятора B используется в командах умножения и деления, а в остальных операциях - как обычная ячейка памяти. Программный счетчик  адресует  пространство  памяти  программ CSEG объемом до 64K байт, причем переход из области внутренней памяти программ к внешней осуществляется автоматичес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данных DPTR используется для обращения к XSEG и при пересылке  констант из CSEG в A.  Кроме того,  содержимое DPTR используется а  качестве  смещения  в  команде  перех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казатель стека SP образует системный стек  глубиной  до  256 байт. SP хранит адрес последнего занесенного байта и растет при записи в сторону больших адрес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стры R0,  R1 каждого банка используются в качестве указателей данных. При сбросе машины в A,  B,  PC и DPTR загружаюся 0h, а в SP - 07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ОРГАНИЗАЦИЯ ВНУТРЕННЕЙ ПАМЯТИ ДАННЫХ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1412640"/>
            <a:ext cx="7467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странство DSEG включает  в себя 256 ячеек памяти,  часть из которых является одновременно элементами других пространств.  Так,  первые  32 байта ОЗУ занимают 4 банка.  Служебные регистры,  порты ввода/вывода, таймеры, аккумуляторы и др. так же совмещены с ячейками памяти и полями битового сегмента.  Это дает возможность обращения к одному физическому объекту  разными  способами.  Так,  к  ячейке DSEG[E0]  можно  обратиться по прямому и косвенному адресу,  обратиться как к аккумулятору A и как к полю BSEG[E0..E7]  (к  каждому биту в отдельности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9"/>
          <p:cNvPicPr/>
          <p:nvPr/>
        </p:nvPicPr>
        <p:blipFill>
          <a:blip r:embed="rId1"/>
          <a:stretch/>
        </p:blipFill>
        <p:spPr>
          <a:xfrm>
            <a:off x="684360" y="3860640"/>
            <a:ext cx="4330440" cy="2389320"/>
          </a:xfrm>
          <a:prstGeom prst="rect">
            <a:avLst/>
          </a:prstGeom>
          <a:ln w="0">
            <a:noFill/>
          </a:ln>
        </p:spPr>
      </p:pic>
      <p:sp>
        <p:nvSpPr>
          <p:cNvPr id="366" name="TextBox 6"/>
          <p:cNvSpPr/>
          <p:nvPr/>
        </p:nvSpPr>
        <p:spPr>
          <a:xfrm>
            <a:off x="517680" y="6357960"/>
            <a:ext cx="573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 9.11. Пространство внутренней памяти данных DSE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6840" y="285840"/>
            <a:ext cx="74674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 адресуется PC[15:0] и может составлять до 64К байт,  причем младшие 4 К могут располагаться  непосредственно на кристалле, а остальная память внешнее ЗУ. С точки зрения программиста внешняя и внутренняя  память  программ представляют единое адресное пространств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«особые точки»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SE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ET   0000h - стартовый адрес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0   0003h - внешнее прерывание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0  000Bh - прерывание от таймера/счетчика T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XTI1   0013h - внешнее прерывание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IMER1  001Bh - прерывание от таймера/счетчика T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INT      0023h - прерывание последовательного порт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СИНХРОНИЗАЦИЯ МИКРОЭВМ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68000" y="148392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итание МК51 осуществляется от одного источника +5В. Кварцевый резонатор 3,5..12 МГц подключается к выводам Х1, Х2; возможно подключение внешнего тактового генератора через Х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OSC/2 - основная внутренняя тактовая частота CLK.  Первая половина периода CLK фаза P1,  вторая - P2.  Каждый машинный  цикл состоит из шести периодов CLK: состояний S1, S2, .. S6 или двенадцати периодов OSC,  называемых фазами S1P1,  S1P2,  S2P1,  .. S6P, S6P2.  Каждый машинный цикл сопровождается генерацией двух стробов ALE длительностью в один период  CLK  -  S1P2..S2P1,  S4P2..  S5P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(КЦ) содержит один или несколько машинных циклов  (МЦ)  и отсчитывается от S1P1.  По фазе S1P2 в IR фиксируется код операции, второй байт двухбайтовой команды читается в S4P2 того же МЦ,  третий байт трехбайтовой - в S1P2 следующего МЦ.  Таким образом,  для ввода каждого байта команды требуется один полуцик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000" indent="-9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  время  всех оставшихся полуциклов в фазах S1P2 и S4P2 читается код операции следующей размещенной в памяти команды,  однако он не помещается в IR и не инкрементируется PC. Текущий КЦ всегда завершается в S6P2. Вслед за этим начинается S1, в котором в IR вводится новый бай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6840" y="285840"/>
            <a:ext cx="74674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360" indent="-9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щение к внешней памяти данных XSEG по команде MOVX требует  второго МЦ,  в котором не вырабатывается первый строб ALE.  На рис. 3.7 приведена временная диаграмма обращения к XSEG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приведение МК51 в исходное состояние необходимо  подать на  вход  RST  импульс H-уровня длительностью не менее 24 периодов OSC (два МЦ) при условии что генератор запущен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10:49Z</dcterms:modified>
  <cp:revision>55</cp:revision>
  <dc:subject/>
  <dc:title>Микропроцессоры и микроконтроллеры </dc:title>
</cp:coreProperties>
</file>